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896-7313-4C50-8C8B-A324B7EA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020-3F7E-4344-A542-78F3AE9F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7C9-5982-4E94-9594-E100C9AB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609-E670-4807-AD69-5E75FFEE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1C1-49DF-402F-90AE-DCBB8F1E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848-297F-438A-BBED-3E22DBAD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32A-0FB1-4C2A-8B70-49C1CAA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45E-9783-4659-8556-995973F6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23A-0C66-4815-BB7E-0BC22B3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AB7-16A4-4E58-BF3F-AFBC69D3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A27-E5C4-462A-8831-F0540C5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A1D-0E0D-47DF-B150-0900221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14F-0566-4507-824A-CADAEA54679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1285920"/>
          <a:ext cx="8205480" cy="4214880"/>
        </p:xfrm>
        <a:graphic>
          <a:graphicData uri="http://schemas.openxmlformats.org/drawingml/2006/table">
            <a:tbl>
              <a:tblPr/>
              <a:tblGrid>
                <a:gridCol w="4179600"/>
                <a:gridCol w="4025880"/>
              </a:tblGrid>
              <a:tr h="820800"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순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세부 이미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94080"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첨부파일의 압축을 풀어 우축 그림과 같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를 넣는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 안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.pack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파일이 들어있어야 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pdat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폴더가 들어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를 삽입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본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AIN MENU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  를 클릭한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시작되면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중입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라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표시 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때 전원을 끄면 제품손상의 원인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므로 절대 전원을 끄지 마십시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“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데이트가 완료 되었습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”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문구가 뜨면 전원을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리셋합니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업그레이드 후 버전 정보 확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스템정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버전정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선된 최종 버전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우측 그림 참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3160" rIns="83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83160" marR="83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6"/>
          <p:cNvSpPr/>
          <p:nvPr/>
        </p:nvSpPr>
        <p:spPr>
          <a:xfrm>
            <a:off x="264960" y="174600"/>
            <a:ext cx="69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S/W)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업그레이드 방법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86240" y="2428920"/>
            <a:ext cx="1590840" cy="66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5286240" y="3714840"/>
            <a:ext cx="3033720" cy="1349280"/>
          </a:xfrm>
          <a:prstGeom prst="rect">
            <a:avLst/>
          </a:prstGeom>
          <a:ln w="0">
            <a:noFill/>
          </a:ln>
        </p:spPr>
      </p:pic>
      <p:sp>
        <p:nvSpPr>
          <p:cNvPr id="45" name="순서도: 대체 처리 13"/>
          <p:cNvSpPr/>
          <p:nvPr/>
        </p:nvSpPr>
        <p:spPr>
          <a:xfrm>
            <a:off x="6072120" y="2428920"/>
            <a:ext cx="790560" cy="571320"/>
          </a:xfrm>
          <a:prstGeom prst="flowChartAlternateProcess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5:48:29Z</dcterms:created>
  <dc:creator>Trywin 안현철</dc:creator>
  <dc:description/>
  <dc:language>en-US</dc:language>
  <cp:lastModifiedBy>Trywin 안현철</cp:lastModifiedBy>
  <dcterms:modified xsi:type="dcterms:W3CDTF">2009-12-04T05:52:07Z</dcterms:modified>
  <cp:revision>2</cp:revision>
  <dc:subject/>
  <dc:title>슬라이드 1</dc:title>
</cp:coreProperties>
</file>